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4E8-B43D-4594-AD9A-E69F44F0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5FA-26E5-4B2B-9B5A-FFBA7D6F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D55-D0FB-495E-9A42-92676788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FA4-92FD-49DF-B4E4-68309A5E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45A5-97F1-432A-BD24-0A37D673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F6AA-40EA-4B4C-B828-B70078DF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A157-AAEC-45E9-9F6D-E96605FD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F953-DF57-4C15-819D-5A2C2669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B0CF-3353-4DD3-89A1-6364E292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4A31-203C-4147-8B1D-B0DDD496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11A3-B981-457A-B7CA-6B47FF42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F36-AE43-4412-9426-F9682318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CA1C-4541-476A-BB6C-4A8EAF26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18D7-DF27-4942-806D-F03CE7D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D521-38E6-4A72-8E47-5CF794FA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F7F7-7B0D-4616-B01B-A4351223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FE3F-0BE2-4D7F-AC18-161C4BDC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DD3-269F-4728-937A-A0B2E71E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EEE-5C3A-4D66-A8B8-0FC9AE86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457-538D-45D1-B341-76DEE05A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DE0-E7F8-4BE7-9743-2B56EC81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E78-76B6-47B5-AA1C-A9A728C0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765-DBEA-4667-8D51-0D03AFBB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A94-B785-46D0-A031-6B285DD5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D06444-824B-470B-953A-B5D95EC512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2CFEFB-D611-48FA-8CAF-180D26DF0E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9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grpSp>
        <p:nvGrpSpPr>
          <p:cNvPr id="100" name="Organization Chart 88"/>
          <p:cNvGrpSpPr/>
          <p:nvPr/>
        </p:nvGrpSpPr>
        <p:grpSpPr>
          <a:xfrm>
            <a:off x="428760" y="-14400"/>
            <a:ext cx="8715240" cy="6729120"/>
            <a:chOff x="428760" y="-14400"/>
            <a:chExt cx="8715240" cy="6729120"/>
          </a:xfrm>
        </p:grpSpPr>
        <p:cxnSp>
          <p:nvCxnSpPr>
            <p:cNvPr id="101" name="_s1028"/>
            <p:cNvCxnSpPr>
              <a:stCxn id="102" idx="0"/>
              <a:endCxn id="103" idx="0"/>
            </p:cNvCxnSpPr>
            <p:nvPr/>
          </p:nvCxnSpPr>
          <p:spPr>
            <a:xfrm flipV="1" rot="16200000">
              <a:off x="5162040" y="3301560"/>
              <a:ext cx="2437920" cy="1138320"/>
            </a:xfrm>
            <a:prstGeom prst="bentConnector4">
              <a:avLst>
                <a:gd name="adj1" fmla="val 16659"/>
                <a:gd name="adj2" fmla="val 120088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1"/>
            </p:cNvCxnSpPr>
            <p:nvPr/>
          </p:nvCxnSpPr>
          <p:spPr>
            <a:xfrm flipH="1" flipV="1" rot="5400000">
              <a:off x="4264560" y="3542400"/>
              <a:ext cx="2437920" cy="6570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8" idx="0"/>
            </p:cNvCxnSpPr>
            <p:nvPr/>
          </p:nvCxnSpPr>
          <p:spPr>
            <a:xfrm flipV="1" rot="16200000">
              <a:off x="1573200" y="3301920"/>
              <a:ext cx="2437920" cy="1137960"/>
            </a:xfrm>
            <a:prstGeom prst="bentConnector4">
              <a:avLst>
                <a:gd name="adj1" fmla="val 16659"/>
                <a:gd name="adj2" fmla="val 120094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8" idx="1"/>
            </p:cNvCxnSpPr>
            <p:nvPr/>
          </p:nvCxnSpPr>
          <p:spPr>
            <a:xfrm flipH="1" flipV="1" rot="5400000">
              <a:off x="675360" y="3542400"/>
              <a:ext cx="2437920" cy="6573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1" name="_s1032"/>
            <p:cNvCxnSpPr>
              <a:stCxn id="112" idx="0"/>
              <a:endCxn id="113" idx="0"/>
            </p:cNvCxnSpPr>
            <p:nvPr/>
          </p:nvCxnSpPr>
          <p:spPr>
            <a:xfrm flipV="1" rot="16200000">
              <a:off x="4712760" y="-481680"/>
              <a:ext cx="2438280" cy="38296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4" name="_s1033"/>
            <p:cNvCxnSpPr>
              <a:stCxn id="103" idx="2"/>
              <a:endCxn id="113" idx="1"/>
            </p:cNvCxnSpPr>
            <p:nvPr/>
          </p:nvCxnSpPr>
          <p:spPr>
            <a:xfrm flipV="1" rot="16200000">
              <a:off x="3815640" y="415800"/>
              <a:ext cx="2438280" cy="20350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5" name="_s1034"/>
            <p:cNvCxnSpPr>
              <a:stCxn id="108" idx="2"/>
              <a:endCxn id="113" idx="2"/>
            </p:cNvCxnSpPr>
            <p:nvPr/>
          </p:nvCxnSpPr>
          <p:spPr>
            <a:xfrm flipH="1" flipV="1" rot="5400000">
              <a:off x="2021040" y="656280"/>
              <a:ext cx="2438280" cy="15544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6" name="_s1035"/>
            <p:cNvCxnSpPr>
              <a:stCxn id="117" idx="0"/>
              <a:endCxn id="113" idx="3"/>
            </p:cNvCxnSpPr>
            <p:nvPr/>
          </p:nvCxnSpPr>
          <p:spPr>
            <a:xfrm flipH="1" flipV="1" rot="5400000">
              <a:off x="1123920" y="-240840"/>
              <a:ext cx="2438280" cy="3348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13" name="_s1036"/>
            <p:cNvSpPr/>
            <p:nvPr/>
          </p:nvSpPr>
          <p:spPr>
            <a:xfrm>
              <a:off x="4017240" y="21420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ечие</a:t>
              </a:r>
              <a:endParaRPr b="0" lang="en-US" sz="20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42876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ИЗМЕНЯЕТС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8" name="_s1038"/>
            <p:cNvSpPr/>
            <p:nvPr/>
          </p:nvSpPr>
          <p:spPr>
            <a:xfrm>
              <a:off x="222300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степени сравнения</a:t>
              </a:r>
              <a:endParaRPr b="0" lang="en-US" sz="19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581184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означает </a:t>
              </a:r>
              <a:endParaRPr b="0" lang="en-US" sz="14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2" name="_s1040"/>
            <p:cNvSpPr/>
            <p:nvPr/>
          </p:nvSpPr>
          <p:spPr>
            <a:xfrm>
              <a:off x="7606440" y="265212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предложении является обстоятельством</a:t>
              </a:r>
              <a:endParaRPr b="0" lang="en-US" sz="11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13258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авнитель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7" name="_s1042"/>
            <p:cNvSpPr/>
            <p:nvPr/>
          </p:nvSpPr>
          <p:spPr>
            <a:xfrm>
              <a:off x="31204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восход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5" name="_s1043"/>
            <p:cNvSpPr/>
            <p:nvPr/>
          </p:nvSpPr>
          <p:spPr>
            <a:xfrm>
              <a:off x="49150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признака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2" name="_s1044"/>
            <p:cNvSpPr/>
            <p:nvPr/>
          </p:nvSpPr>
          <p:spPr>
            <a:xfrm>
              <a:off x="6709680" y="508968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действи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9720" y="1500120"/>
            <a:ext cx="7774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6000" spc="-1" strike="noStrike">
                <a:solidFill>
                  <a:srgbClr val="e70000"/>
                </a:solidFill>
                <a:latin typeface="Bookman Old Style"/>
              </a:rPr>
              <a:t>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дк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ред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ист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ч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"/>
          <p:cNvCxnSpPr/>
          <p:nvPr/>
        </p:nvCxnSpPr>
        <p:spPr>
          <a:xfrm flipH="1" flipV="1">
            <a:off x="4071240" y="1999440"/>
            <a:ext cx="857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5"/>
          <p:cNvCxnSpPr/>
          <p:nvPr/>
        </p:nvCxnSpPr>
        <p:spPr>
          <a:xfrm flipH="1" flipV="1">
            <a:off x="3928680" y="2642400"/>
            <a:ext cx="1000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0"/>
          <p:cNvCxnSpPr/>
          <p:nvPr/>
        </p:nvCxnSpPr>
        <p:spPr>
          <a:xfrm flipH="1" flipV="1">
            <a:off x="3571560" y="5214600"/>
            <a:ext cx="1072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1"/>
          <p:cNvCxnSpPr/>
          <p:nvPr/>
        </p:nvCxnSpPr>
        <p:spPr>
          <a:xfrm flipH="1" flipV="1">
            <a:off x="3499560" y="4428360"/>
            <a:ext cx="1143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785960" y="357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Алгоритм рассуждения </a:t>
            </a:r>
            <a:endParaRPr b="0" lang="en-US" sz="3600" spc="-1" strike="noStrike">
              <a:solidFill>
                <a:srgbClr val="ffffe1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000080"/>
          <a:ext cx="8786880" cy="5357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751464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мотрим, есть ли в наречии приставки ИЗ-, ДО-, С-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да                                нет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рассуждаю дальше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2. Смотрим, как образовано наречие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т бесприставочного прилаг.            от прилагательного с приставкой</a:t>
                      </a:r>
                      <a:endParaRPr b="0" lang="en-US" sz="2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	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ишу А                          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8" name="Прямая со стрелкой 26"/>
          <p:cNvCxnSpPr/>
          <p:nvPr/>
        </p:nvCxnSpPr>
        <p:spPr>
          <a:xfrm flipH="1">
            <a:off x="2142360" y="1784880"/>
            <a:ext cx="71532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28"/>
          <p:cNvCxnSpPr/>
          <p:nvPr/>
        </p:nvCxnSpPr>
        <p:spPr>
          <a:xfrm>
            <a:off x="4785840" y="1785600"/>
            <a:ext cx="7866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29"/>
          <p:cNvCxnSpPr/>
          <p:nvPr/>
        </p:nvCxnSpPr>
        <p:spPr>
          <a:xfrm flipH="1">
            <a:off x="2285640" y="4570920"/>
            <a:ext cx="1572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30"/>
          <p:cNvCxnSpPr/>
          <p:nvPr/>
        </p:nvCxnSpPr>
        <p:spPr>
          <a:xfrm>
            <a:off x="6286680" y="4500360"/>
            <a:ext cx="10720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Прямая со стрелкой 31"/>
          <p:cNvCxnSpPr/>
          <p:nvPr/>
        </p:nvCxnSpPr>
        <p:spPr>
          <a:xfrm flipH="1">
            <a:off x="5571360" y="2786040"/>
            <a:ext cx="2520" cy="64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/>
          <p:nvPr/>
        </p:nvCxnSpPr>
        <p:spPr>
          <a:xfrm flipH="1">
            <a:off x="2284200" y="2714760"/>
            <a:ext cx="21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428840" y="1857240"/>
            <a:ext cx="735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§ 43, упр. 271, стр. 112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мы редко ездили отдыхать на м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изредка показывалось из-за туч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ва возвышались горы, справа чернела пропа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смотрел налево, потом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иж метнулся впра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был вытерт досух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лице было солнечно, сухо и пыль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заново начал писать сочин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окном снова начался дождь.</a:t>
            </a:r>
            <a:br>
              <a:rPr sz="2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ко, изредка, слева, справа, налево, направо, вправо, досуха, сухо, заново,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на конце однокоренных наречий разные глас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ы должны выяснить? Поставьте вопро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Буквы о, а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на конце наречий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11040" y="3997440"/>
            <a:ext cx="1128960" cy="1942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1571760" y="4000680"/>
            <a:ext cx="70722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Цель: научиться правильно писать буквы О и А на конце наречий</a:t>
            </a:r>
            <a:endParaRPr b="0" lang="en-US" sz="32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715160" y="4572000"/>
            <a:ext cx="1197000" cy="200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29336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00" y="1000080"/>
            <a:ext cx="87152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0680" algn="ctr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в-, на-, за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-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 на ко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 algn="ctr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из-, до-, с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-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на конце слова</a:t>
            </a: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94920"/>
            <a:ext cx="77738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Bookman Old Style"/>
              </a:rPr>
              <a:t>Подтвердите выведенное правило примера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7868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Сле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изредк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дочи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запро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впра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напевн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4:47Z</dcterms:created>
  <dc:creator>User</dc:creator>
  <dc:description/>
  <dc:language>en-US</dc:language>
  <cp:lastModifiedBy>User</cp:lastModifiedBy>
  <dcterms:modified xsi:type="dcterms:W3CDTF">2014-03-04T17:36:00Z</dcterms:modified>
  <cp:revision>24</cp:revision>
  <dc:subject/>
  <dc:title>Буквы о, а на конце наречий</dc:title>
</cp:coreProperties>
</file>